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6B9-A5C5-436E-996D-EFB39142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9C5-C6C3-4366-AE02-CDEAA6EE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3C9-5308-4A8C-A3D6-CDCBDD50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5CC-08E5-4D90-9BF6-972658C2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38C-B06A-4163-85B0-209C96AF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021-CA90-40BD-A899-B3F96CE3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2B25-2F75-448D-AE1B-D22D5E24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C38-348B-415A-951D-6DBD7D67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15E-2952-4E4F-99E8-62F7EA89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847-CD65-4FE8-8A78-C63CD4CC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7A3-9F10-415F-AC9A-22C0CD99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B57-5542-4A9A-B5C4-1E368411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F46D-4296-408D-BA2A-784586453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Algebraic Equations with Ti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 the Equation with Ti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14400" y="2514600"/>
            <a:ext cx="1828800" cy="2209680"/>
            <a:chOff x="914400" y="2514600"/>
            <a:chExt cx="1828800" cy="2209680"/>
          </a:xfrm>
        </p:grpSpPr>
        <p:sp>
          <p:nvSpPr>
            <p:cNvPr id="44" name=""/>
            <p:cNvSpPr/>
            <p:nvPr/>
          </p:nvSpPr>
          <p:spPr>
            <a:xfrm>
              <a:off x="914400" y="25146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00200" y="25146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86000" y="25146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048120" y="2514600"/>
            <a:ext cx="457200" cy="2286000"/>
            <a:chOff x="3048120" y="2514600"/>
            <a:chExt cx="457200" cy="2286000"/>
          </a:xfrm>
        </p:grpSpPr>
        <p:sp>
          <p:nvSpPr>
            <p:cNvPr id="48" name=""/>
            <p:cNvSpPr/>
            <p:nvPr/>
          </p:nvSpPr>
          <p:spPr>
            <a:xfrm>
              <a:off x="304812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812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812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812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191120" y="2514600"/>
            <a:ext cx="0" cy="2209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724280" y="2514600"/>
            <a:ext cx="457200" cy="2286000"/>
            <a:chOff x="4724280" y="2514600"/>
            <a:chExt cx="457200" cy="2286000"/>
          </a:xfrm>
        </p:grpSpPr>
        <p:sp>
          <p:nvSpPr>
            <p:cNvPr id="54" name=""/>
            <p:cNvSpPr/>
            <p:nvPr/>
          </p:nvSpPr>
          <p:spPr>
            <a:xfrm>
              <a:off x="472428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2428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2428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2428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410080" y="2514600"/>
            <a:ext cx="457200" cy="2286000"/>
            <a:chOff x="5410080" y="2514600"/>
            <a:chExt cx="457200" cy="2286000"/>
          </a:xfrm>
        </p:grpSpPr>
        <p:sp>
          <p:nvSpPr>
            <p:cNvPr id="59" name=""/>
            <p:cNvSpPr/>
            <p:nvPr/>
          </p:nvSpPr>
          <p:spPr>
            <a:xfrm>
              <a:off x="541008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1008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1008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1008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095880" y="2514600"/>
            <a:ext cx="457200" cy="2286000"/>
            <a:chOff x="6095880" y="2514600"/>
            <a:chExt cx="457200" cy="2286000"/>
          </a:xfrm>
        </p:grpSpPr>
        <p:sp>
          <p:nvSpPr>
            <p:cNvPr id="64" name=""/>
            <p:cNvSpPr/>
            <p:nvPr/>
          </p:nvSpPr>
          <p:spPr>
            <a:xfrm>
              <a:off x="609588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9588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588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588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781680" y="2514600"/>
            <a:ext cx="457200" cy="2286000"/>
            <a:chOff x="6781680" y="2514600"/>
            <a:chExt cx="457200" cy="2286000"/>
          </a:xfrm>
        </p:grpSpPr>
        <p:sp>
          <p:nvSpPr>
            <p:cNvPr id="69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8168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8168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8168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666880" y="1295280"/>
                <a:ext cx="3657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late the  Variable by Using the Zero 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219320" y="2514600"/>
            <a:ext cx="6324480" cy="2286000"/>
            <a:chOff x="1219320" y="2514600"/>
            <a:chExt cx="6324480" cy="2286000"/>
          </a:xfrm>
        </p:grpSpPr>
        <p:grpSp>
          <p:nvGrpSpPr>
            <p:cNvPr id="76" name=""/>
            <p:cNvGrpSpPr/>
            <p:nvPr/>
          </p:nvGrpSpPr>
          <p:grpSpPr>
            <a:xfrm>
              <a:off x="1219320" y="2514600"/>
              <a:ext cx="1828800" cy="2209680"/>
              <a:chOff x="1219320" y="2514600"/>
              <a:chExt cx="1828800" cy="2209680"/>
            </a:xfrm>
          </p:grpSpPr>
          <p:sp>
            <p:nvSpPr>
              <p:cNvPr id="77" name=""/>
              <p:cNvSpPr/>
              <p:nvPr/>
            </p:nvSpPr>
            <p:spPr>
              <a:xfrm>
                <a:off x="1219320" y="2514600"/>
                <a:ext cx="457200" cy="22096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05120" y="2514600"/>
                <a:ext cx="457200" cy="22096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590920" y="2514600"/>
                <a:ext cx="457200" cy="22096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353040" y="2514600"/>
              <a:ext cx="457200" cy="2286000"/>
              <a:chOff x="3353040" y="2514600"/>
              <a:chExt cx="457200" cy="2286000"/>
            </a:xfrm>
          </p:grpSpPr>
          <p:sp>
            <p:nvSpPr>
              <p:cNvPr id="81" name=""/>
              <p:cNvSpPr/>
              <p:nvPr/>
            </p:nvSpPr>
            <p:spPr>
              <a:xfrm>
                <a:off x="3353040" y="37339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353040" y="31240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353040" y="25146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353040" y="43434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4496040" y="2514600"/>
              <a:ext cx="0" cy="2209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5029200" y="2514600"/>
              <a:ext cx="457200" cy="2286000"/>
              <a:chOff x="5029200" y="2514600"/>
              <a:chExt cx="457200" cy="2286000"/>
            </a:xfrm>
          </p:grpSpPr>
          <p:sp>
            <p:nvSpPr>
              <p:cNvPr id="87" name=""/>
              <p:cNvSpPr/>
              <p:nvPr/>
            </p:nvSpPr>
            <p:spPr>
              <a:xfrm>
                <a:off x="5029200" y="25146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29200" y="31240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29200" y="37339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29200" y="43434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715000" y="2514600"/>
              <a:ext cx="457200" cy="2286000"/>
              <a:chOff x="5715000" y="2514600"/>
              <a:chExt cx="457200" cy="2286000"/>
            </a:xfrm>
          </p:grpSpPr>
          <p:sp>
            <p:nvSpPr>
              <p:cNvPr id="92" name=""/>
              <p:cNvSpPr/>
              <p:nvPr/>
            </p:nvSpPr>
            <p:spPr>
              <a:xfrm>
                <a:off x="5715000" y="25146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15000" y="31240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715000" y="37339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715000" y="43434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6400800" y="2514600"/>
              <a:ext cx="457200" cy="2286000"/>
              <a:chOff x="6400800" y="2514600"/>
              <a:chExt cx="457200" cy="2286000"/>
            </a:xfrm>
          </p:grpSpPr>
          <p:sp>
            <p:nvSpPr>
              <p:cNvPr id="97" name=""/>
              <p:cNvSpPr/>
              <p:nvPr/>
            </p:nvSpPr>
            <p:spPr>
              <a:xfrm>
                <a:off x="6400800" y="25146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400800" y="31240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400800" y="37339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00800" y="43434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7086600" y="2514600"/>
              <a:ext cx="457200" cy="2286000"/>
              <a:chOff x="7086600" y="2514600"/>
              <a:chExt cx="457200" cy="2286000"/>
            </a:xfrm>
          </p:grpSpPr>
          <p:sp>
            <p:nvSpPr>
              <p:cNvPr id="102" name=""/>
              <p:cNvSpPr/>
              <p:nvPr/>
            </p:nvSpPr>
            <p:spPr>
              <a:xfrm>
                <a:off x="7086600" y="25146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86600" y="31240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86600" y="37339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86600" y="43434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1219320" y="5257800"/>
            <a:ext cx="7010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rder to have the variable (x) by itself, you have to get rid of the 4 red ti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do this add four white tiles, which will cancel out the four red 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219320" y="2514600"/>
            <a:ext cx="1828800" cy="2209680"/>
            <a:chOff x="1219320" y="2514600"/>
            <a:chExt cx="1828800" cy="2209680"/>
          </a:xfrm>
        </p:grpSpPr>
        <p:sp>
          <p:nvSpPr>
            <p:cNvPr id="108" name=""/>
            <p:cNvSpPr/>
            <p:nvPr/>
          </p:nvSpPr>
          <p:spPr>
            <a:xfrm>
              <a:off x="1219320" y="25146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25146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90920" y="25146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276720" y="2514600"/>
            <a:ext cx="457200" cy="2286000"/>
            <a:chOff x="3276720" y="2514600"/>
            <a:chExt cx="457200" cy="2286000"/>
          </a:xfrm>
        </p:grpSpPr>
        <p:sp>
          <p:nvSpPr>
            <p:cNvPr id="112" name=""/>
            <p:cNvSpPr/>
            <p:nvPr/>
          </p:nvSpPr>
          <p:spPr>
            <a:xfrm>
              <a:off x="327672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7672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672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495680" y="2514600"/>
            <a:ext cx="0" cy="2209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029200" y="2514600"/>
            <a:ext cx="457200" cy="2286000"/>
            <a:chOff x="5029200" y="2514600"/>
            <a:chExt cx="457200" cy="2286000"/>
          </a:xfrm>
        </p:grpSpPr>
        <p:sp>
          <p:nvSpPr>
            <p:cNvPr id="118" name=""/>
            <p:cNvSpPr/>
            <p:nvPr/>
          </p:nvSpPr>
          <p:spPr>
            <a:xfrm>
              <a:off x="502920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2920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2920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2920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715000" y="2514600"/>
            <a:ext cx="457200" cy="2286000"/>
            <a:chOff x="5715000" y="2514600"/>
            <a:chExt cx="457200" cy="2286000"/>
          </a:xfrm>
        </p:grpSpPr>
        <p:sp>
          <p:nvSpPr>
            <p:cNvPr id="123" name=""/>
            <p:cNvSpPr/>
            <p:nvPr/>
          </p:nvSpPr>
          <p:spPr>
            <a:xfrm>
              <a:off x="571500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1500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500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400800" y="2514600"/>
            <a:ext cx="457200" cy="2286000"/>
            <a:chOff x="6400800" y="2514600"/>
            <a:chExt cx="457200" cy="2286000"/>
          </a:xfrm>
        </p:grpSpPr>
        <p:sp>
          <p:nvSpPr>
            <p:cNvPr id="128" name=""/>
            <p:cNvSpPr/>
            <p:nvPr/>
          </p:nvSpPr>
          <p:spPr>
            <a:xfrm>
              <a:off x="640080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0080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0080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080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514600"/>
            <a:ext cx="457200" cy="2286000"/>
            <a:chOff x="7086600" y="2514600"/>
            <a:chExt cx="457200" cy="2286000"/>
          </a:xfrm>
        </p:grpSpPr>
        <p:sp>
          <p:nvSpPr>
            <p:cNvPr id="133" name=""/>
            <p:cNvSpPr/>
            <p:nvPr/>
          </p:nvSpPr>
          <p:spPr>
            <a:xfrm>
              <a:off x="708660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660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660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8660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86200" y="2514600"/>
            <a:ext cx="457200" cy="2286000"/>
            <a:chOff x="3886200" y="2514600"/>
            <a:chExt cx="457200" cy="2286000"/>
          </a:xfrm>
        </p:grpSpPr>
        <p:sp>
          <p:nvSpPr>
            <p:cNvPr id="138" name=""/>
            <p:cNvSpPr/>
            <p:nvPr/>
          </p:nvSpPr>
          <p:spPr>
            <a:xfrm>
              <a:off x="3886200" y="373392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86200" y="312408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25146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86200" y="43434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848720" y="2514600"/>
            <a:ext cx="457200" cy="2286000"/>
            <a:chOff x="7848720" y="2514600"/>
            <a:chExt cx="457200" cy="2286000"/>
          </a:xfrm>
        </p:grpSpPr>
        <p:sp>
          <p:nvSpPr>
            <p:cNvPr id="143" name=""/>
            <p:cNvSpPr/>
            <p:nvPr/>
          </p:nvSpPr>
          <p:spPr>
            <a:xfrm>
              <a:off x="7848720" y="373392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48720" y="312408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48720" y="25146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48720" y="43434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523880" y="5029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 whatever you add to one side of the equation, you have to add to the other side as well to keep the equation 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6858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Zero Principle at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143000" y="2286000"/>
            <a:ext cx="5638680" cy="2286000"/>
            <a:chOff x="1143000" y="2286000"/>
            <a:chExt cx="5638680" cy="2286000"/>
          </a:xfrm>
        </p:grpSpPr>
        <p:grpSp>
          <p:nvGrpSpPr>
            <p:cNvPr id="150" name=""/>
            <p:cNvGrpSpPr/>
            <p:nvPr/>
          </p:nvGrpSpPr>
          <p:grpSpPr>
            <a:xfrm>
              <a:off x="1143000" y="2286000"/>
              <a:ext cx="1828800" cy="2209680"/>
              <a:chOff x="1143000" y="2286000"/>
              <a:chExt cx="1828800" cy="2209680"/>
            </a:xfrm>
          </p:grpSpPr>
          <p:sp>
            <p:nvSpPr>
              <p:cNvPr id="151" name=""/>
              <p:cNvSpPr/>
              <p:nvPr/>
            </p:nvSpPr>
            <p:spPr>
              <a:xfrm>
                <a:off x="1143000" y="2286000"/>
                <a:ext cx="457200" cy="22096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28800" y="2286000"/>
                <a:ext cx="457200" cy="22096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14600" y="2286000"/>
                <a:ext cx="457200" cy="22096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4419720" y="2286000"/>
              <a:ext cx="0" cy="2209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952880" y="2286000"/>
              <a:ext cx="457200" cy="2286000"/>
              <a:chOff x="4952880" y="2286000"/>
              <a:chExt cx="457200" cy="2286000"/>
            </a:xfrm>
          </p:grpSpPr>
          <p:sp>
            <p:nvSpPr>
              <p:cNvPr id="156" name=""/>
              <p:cNvSpPr/>
              <p:nvPr/>
            </p:nvSpPr>
            <p:spPr>
              <a:xfrm>
                <a:off x="4952880" y="22860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52880" y="2895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52880" y="35053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52880" y="41148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638680" y="2286000"/>
              <a:ext cx="457200" cy="2286000"/>
              <a:chOff x="5638680" y="2286000"/>
              <a:chExt cx="457200" cy="228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638680" y="22860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638680" y="2895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38680" y="35053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38680" y="41148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324480" y="2286000"/>
              <a:ext cx="457200" cy="2286000"/>
              <a:chOff x="6324480" y="2286000"/>
              <a:chExt cx="457200" cy="2286000"/>
            </a:xfrm>
          </p:grpSpPr>
          <p:sp>
            <p:nvSpPr>
              <p:cNvPr id="166" name=""/>
              <p:cNvSpPr/>
              <p:nvPr/>
            </p:nvSpPr>
            <p:spPr>
              <a:xfrm>
                <a:off x="6324480" y="22860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24480" y="2895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24480" y="35053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24480" y="41148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3276720" y="3505320"/>
            <a:ext cx="990360" cy="457200"/>
            <a:chOff x="3276720" y="3505320"/>
            <a:chExt cx="990360" cy="457200"/>
          </a:xfrm>
        </p:grpSpPr>
        <p:sp>
          <p:nvSpPr>
            <p:cNvPr id="171" name=""/>
            <p:cNvSpPr/>
            <p:nvPr/>
          </p:nvSpPr>
          <p:spPr>
            <a:xfrm>
              <a:off x="3276720" y="35053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9880" y="350532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76720" y="2895480"/>
            <a:ext cx="990360" cy="457200"/>
            <a:chOff x="3276720" y="2895480"/>
            <a:chExt cx="990360" cy="457200"/>
          </a:xfrm>
        </p:grpSpPr>
        <p:sp>
          <p:nvSpPr>
            <p:cNvPr id="174" name=""/>
            <p:cNvSpPr/>
            <p:nvPr/>
          </p:nvSpPr>
          <p:spPr>
            <a:xfrm>
              <a:off x="3276720" y="28954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9880" y="289548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276720" y="2286000"/>
            <a:ext cx="990360" cy="457200"/>
            <a:chOff x="3276720" y="2286000"/>
            <a:chExt cx="990360" cy="457200"/>
          </a:xfrm>
        </p:grpSpPr>
        <p:sp>
          <p:nvSpPr>
            <p:cNvPr id="177" name=""/>
            <p:cNvSpPr/>
            <p:nvPr/>
          </p:nvSpPr>
          <p:spPr>
            <a:xfrm>
              <a:off x="3276720" y="22860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880" y="22860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276720" y="4114800"/>
            <a:ext cx="990360" cy="457200"/>
            <a:chOff x="3276720" y="4114800"/>
            <a:chExt cx="990360" cy="457200"/>
          </a:xfrm>
        </p:grpSpPr>
        <p:sp>
          <p:nvSpPr>
            <p:cNvPr id="180" name=""/>
            <p:cNvSpPr/>
            <p:nvPr/>
          </p:nvSpPr>
          <p:spPr>
            <a:xfrm>
              <a:off x="3276720" y="41148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9880" y="41148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0280" y="3505320"/>
            <a:ext cx="1143000" cy="457200"/>
            <a:chOff x="7010280" y="3505320"/>
            <a:chExt cx="1143000" cy="457200"/>
          </a:xfrm>
        </p:grpSpPr>
        <p:sp>
          <p:nvSpPr>
            <p:cNvPr id="183" name=""/>
            <p:cNvSpPr/>
            <p:nvPr/>
          </p:nvSpPr>
          <p:spPr>
            <a:xfrm>
              <a:off x="7010280" y="35053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96080" y="350532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10280" y="2895480"/>
            <a:ext cx="1143000" cy="457200"/>
            <a:chOff x="7010280" y="2895480"/>
            <a:chExt cx="1143000" cy="457200"/>
          </a:xfrm>
        </p:grpSpPr>
        <p:sp>
          <p:nvSpPr>
            <p:cNvPr id="186" name=""/>
            <p:cNvSpPr/>
            <p:nvPr/>
          </p:nvSpPr>
          <p:spPr>
            <a:xfrm>
              <a:off x="7010280" y="28954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96080" y="289548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010280" y="2286000"/>
            <a:ext cx="1143000" cy="457200"/>
            <a:chOff x="7010280" y="2286000"/>
            <a:chExt cx="1143000" cy="457200"/>
          </a:xfrm>
        </p:grpSpPr>
        <p:sp>
          <p:nvSpPr>
            <p:cNvPr id="189" name=""/>
            <p:cNvSpPr/>
            <p:nvPr/>
          </p:nvSpPr>
          <p:spPr>
            <a:xfrm>
              <a:off x="7010280" y="22860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96080" y="22860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010280" y="4114800"/>
            <a:ext cx="1143000" cy="457200"/>
            <a:chOff x="7010280" y="4114800"/>
            <a:chExt cx="1143000" cy="457200"/>
          </a:xfrm>
        </p:grpSpPr>
        <p:sp>
          <p:nvSpPr>
            <p:cNvPr id="192" name=""/>
            <p:cNvSpPr/>
            <p:nvPr/>
          </p:nvSpPr>
          <p:spPr>
            <a:xfrm>
              <a:off x="7010280" y="41148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41148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751400" y="5181480"/>
            <a:ext cx="65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ve the tiles that cancel each other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19320" y="3962520"/>
            <a:ext cx="64767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3276720"/>
            <a:ext cx="64767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2590920"/>
            <a:ext cx="64767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676520" y="2286000"/>
            <a:ext cx="1828800" cy="2209680"/>
            <a:chOff x="1676520" y="2286000"/>
            <a:chExt cx="1828800" cy="2209680"/>
          </a:xfrm>
        </p:grpSpPr>
        <p:sp>
          <p:nvSpPr>
            <p:cNvPr id="199" name=""/>
            <p:cNvSpPr/>
            <p:nvPr/>
          </p:nvSpPr>
          <p:spPr>
            <a:xfrm>
              <a:off x="1676520" y="22860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62320" y="22860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8120" y="22860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952880" y="2286000"/>
            <a:ext cx="0" cy="2209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486400" y="2286000"/>
            <a:ext cx="1828800" cy="2286000"/>
            <a:chOff x="5486400" y="2286000"/>
            <a:chExt cx="1828800" cy="2286000"/>
          </a:xfrm>
        </p:grpSpPr>
        <p:grpSp>
          <p:nvGrpSpPr>
            <p:cNvPr id="204" name=""/>
            <p:cNvGrpSpPr/>
            <p:nvPr/>
          </p:nvGrpSpPr>
          <p:grpSpPr>
            <a:xfrm>
              <a:off x="5486400" y="2286000"/>
              <a:ext cx="457200" cy="2286000"/>
              <a:chOff x="5486400" y="2286000"/>
              <a:chExt cx="457200" cy="2286000"/>
            </a:xfrm>
          </p:grpSpPr>
          <p:sp>
            <p:nvSpPr>
              <p:cNvPr id="205" name=""/>
              <p:cNvSpPr/>
              <p:nvPr/>
            </p:nvSpPr>
            <p:spPr>
              <a:xfrm>
                <a:off x="5486400" y="22860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86400" y="2895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86400" y="35053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86400" y="41148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172200" y="2286000"/>
              <a:ext cx="457200" cy="2286000"/>
              <a:chOff x="6172200" y="2286000"/>
              <a:chExt cx="457200" cy="2286000"/>
            </a:xfrm>
          </p:grpSpPr>
          <p:sp>
            <p:nvSpPr>
              <p:cNvPr id="210" name=""/>
              <p:cNvSpPr/>
              <p:nvPr/>
            </p:nvSpPr>
            <p:spPr>
              <a:xfrm>
                <a:off x="6172200" y="22860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172200" y="2895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172200" y="35053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72200" y="41148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858000" y="2286000"/>
              <a:ext cx="457200" cy="2286000"/>
              <a:chOff x="6858000" y="2286000"/>
              <a:chExt cx="457200" cy="2286000"/>
            </a:xfrm>
          </p:grpSpPr>
          <p:sp>
            <p:nvSpPr>
              <p:cNvPr id="215" name=""/>
              <p:cNvSpPr/>
              <p:nvPr/>
            </p:nvSpPr>
            <p:spPr>
              <a:xfrm>
                <a:off x="6858000" y="22860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58000" y="2895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858000" y="35053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858000" y="41148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352680" y="914400"/>
                <a:ext cx="2343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1752480" y="4876920"/>
            <a:ext cx="580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have three x’s left and 12 ones.  To find out what ONE x is you have to divide each side by th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38360" y="2629080"/>
            <a:ext cx="2209680" cy="1828800"/>
            <a:chOff x="1638360" y="2629080"/>
            <a:chExt cx="2209680" cy="1828800"/>
          </a:xfrm>
        </p:grpSpPr>
        <p:sp>
          <p:nvSpPr>
            <p:cNvPr id="222" name=""/>
            <p:cNvSpPr/>
            <p:nvPr/>
          </p:nvSpPr>
          <p:spPr>
            <a:xfrm rot="5400000">
              <a:off x="2514600" y="175284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2514600" y="243864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2514600" y="312444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105520" y="2666880"/>
            <a:ext cx="2286000" cy="1828800"/>
            <a:chOff x="5105520" y="2666880"/>
            <a:chExt cx="2286000" cy="1828800"/>
          </a:xfrm>
        </p:grpSpPr>
        <p:grpSp>
          <p:nvGrpSpPr>
            <p:cNvPr id="226" name=""/>
            <p:cNvGrpSpPr/>
            <p:nvPr/>
          </p:nvGrpSpPr>
          <p:grpSpPr>
            <a:xfrm>
              <a:off x="5105520" y="2666880"/>
              <a:ext cx="2286000" cy="457200"/>
              <a:chOff x="5105520" y="2666880"/>
              <a:chExt cx="2286000" cy="457200"/>
            </a:xfrm>
          </p:grpSpPr>
          <p:sp>
            <p:nvSpPr>
              <p:cNvPr id="227" name=""/>
              <p:cNvSpPr/>
              <p:nvPr/>
            </p:nvSpPr>
            <p:spPr>
              <a:xfrm rot="5400000">
                <a:off x="6934320" y="26668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5400000">
                <a:off x="6324840" y="26668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5400000">
                <a:off x="5715000" y="26668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105520" y="26668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105520" y="3352680"/>
              <a:ext cx="2286000" cy="457200"/>
              <a:chOff x="5105520" y="3352680"/>
              <a:chExt cx="2286000" cy="457200"/>
            </a:xfrm>
          </p:grpSpPr>
          <p:sp>
            <p:nvSpPr>
              <p:cNvPr id="232" name=""/>
              <p:cNvSpPr/>
              <p:nvPr/>
            </p:nvSpPr>
            <p:spPr>
              <a:xfrm rot="5400000">
                <a:off x="6934320" y="33526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5400000">
                <a:off x="6324840" y="33526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5400000">
                <a:off x="5715000" y="33526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5400000">
                <a:off x="5105520" y="33526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105520" y="4038480"/>
              <a:ext cx="2286000" cy="457200"/>
              <a:chOff x="5105520" y="4038480"/>
              <a:chExt cx="2286000" cy="457200"/>
            </a:xfrm>
          </p:grpSpPr>
          <p:sp>
            <p:nvSpPr>
              <p:cNvPr id="237" name=""/>
              <p:cNvSpPr/>
              <p:nvPr/>
            </p:nvSpPr>
            <p:spPr>
              <a:xfrm rot="5400000">
                <a:off x="6934320" y="4038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5400000">
                <a:off x="6324840" y="4038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5400000">
                <a:off x="5715000" y="4038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5400000">
                <a:off x="5105520" y="4038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445920" y="5943600"/>
            <a:ext cx="2088720" cy="5814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: 1x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ify your answer by substituting the value of x into the equ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38280" y="1981080"/>
                <a:ext cx="37054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3354840" y="304812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x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514600" y="1981080"/>
                <a:ext cx="3657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2666880" y="38862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 + 4 = 1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10680" y="510552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L.S. (left side) = The R.S. (right s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1360" y="5867280"/>
            <a:ext cx="5586480" cy="4597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nswer to the equation i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0:31:25Z</dcterms:created>
  <dc:creator>admin</dc:creator>
  <dc:description/>
  <dc:language>en-US</dc:language>
  <cp:lastModifiedBy>admin</cp:lastModifiedBy>
  <dcterms:modified xsi:type="dcterms:W3CDTF">2008-02-28T01:33:13Z</dcterms:modified>
  <cp:revision>5</cp:revision>
  <dc:subject/>
  <dc:title>Solving Algebraic Equations with Tiles </dc:title>
</cp:coreProperties>
</file>